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2157-CA9A-4EAD-A352-B888D6AEB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D9EB-3E0A-4ABE-A018-81E47D75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4A4A-3783-4128-BCE6-077CE488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42FC-CF6C-461C-9826-5EFCAB324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11A6-738F-4D39-93CC-C2D4342D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737A-A069-485B-AADA-00EBB6F6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A5B8-DAC4-4AA8-96EA-EEA78E0E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C919-BF03-45D2-8AC9-99F6539C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120" y="6854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3F25-7DCD-43B3-A5BA-AE3ADC65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2574-BD32-49A2-9B86-9FF0C081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F0B2-081A-4A66-A65C-A2E03F0D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25D6-90AF-471D-93EA-39988E51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000066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99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FF459-4533-4F90-BAAE-130E904FA43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5F2E-6B69-47A5-BBA8-3E7E6C415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logo" descr=""/>
          <p:cNvPicPr/>
          <p:nvPr/>
        </p:nvPicPr>
        <p:blipFill>
          <a:blip r:embed="rId2"/>
          <a:stretch/>
        </p:blipFill>
        <p:spPr>
          <a:xfrm>
            <a:off x="7888320" y="685800"/>
            <a:ext cx="493560" cy="719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772400" y="137160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gler for aler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Kurs for turneringslede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Trondheim 3-5 mai 2002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alert                       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2F15-DE99-4C4C-8623-33B40FD6E72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9F2825-49BA-4EAB-8159-B73A7D68430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66"/>
                </a:solidFill>
                <a:latin typeface="Times New Roman"/>
              </a:rPr>
              <a:t>Generelt alerteringsprinsipp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Hensikten med å alertere er å vekke motparten slik at de er oppmerksomme på at det avgitte budet inneholder informasjon utover det en kan vente av en ekte melding.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Det er viktig å merke seg at det i forskjellige miljøer kan være ulike forventninger til betydningen av meldinger.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800" spc="-1" strike="noStrike">
                <a:solidFill>
                  <a:srgbClr val="990000"/>
                </a:solidFill>
                <a:latin typeface="Times New Roman"/>
              </a:rPr>
              <a:t>Det har derfor vist seg utilfredstillende å basere alertering på "ikke vanlig/vanlig". 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Reglene fra nå av vil i hovedsak i stedet bli basert på "konvensjonell/ekte”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alert                       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DBFA-B17A-4D3A-8A31-E858E56BE47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D40DCB-3F59-4CA9-9A41-ABE3309FD78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Hva skal alerteres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990000"/>
                </a:solidFill>
                <a:latin typeface="Times New Roman"/>
              </a:rPr>
              <a:t>Hovedregelen er at alle konvensjonelle meldinger skal alerteres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990000"/>
                </a:solidFill>
                <a:latin typeface="Times New Roman"/>
              </a:rPr>
              <a:t>Ekte meldinger der makkeravtalen inneholder vesentlige tilleggsbetydningre ut over hva som følger av den er ekte, skal alerteres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990000"/>
                </a:solidFill>
                <a:latin typeface="Times New Roman"/>
              </a:rPr>
              <a:t>Ekte meldinger der betydningen er betydelig påvirket av andre avtaler, slik at motstanderne ikke uten videre kan trekke de rette slutninger av meldingsforløpet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990000"/>
                </a:solidFill>
                <a:latin typeface="Times New Roman"/>
              </a:rPr>
              <a:t>Ekte meldinger der det kan være rimelig tvil om kravnivået.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990000"/>
                </a:solidFill>
                <a:latin typeface="Times New Roman"/>
              </a:rPr>
              <a:t>Åpning sterk 2 kl og Svar på 1-2 NT Stayman 2 kl/3kl skal etter disse regler alerteres,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990000"/>
                </a:solidFill>
                <a:latin typeface="Times New Roman"/>
              </a:rPr>
              <a:t>Pass, Dobler og Redobler skal alerteres, når de ikke er ekte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0066"/>
                </a:solidFill>
                <a:latin typeface="Times New Roman"/>
              </a:rPr>
              <a:t>TL må være svært varsom med å gi erstatning for manglende alert av meldinger som beskrives på forsiden av systemkortet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alert                       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B619-66D4-44E8-8567-17076352778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B21548-F5C6-49EE-B5A1-A18E3A0BAB4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Hva skal ikke alerteres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990000"/>
                </a:solidFill>
                <a:latin typeface="Times New Roman"/>
              </a:rPr>
              <a:t>Ekte meldinger uten betydelig tilleggsinformasjon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990000"/>
                </a:solidFill>
                <a:latin typeface="Times New Roman"/>
              </a:rPr>
              <a:t>Meldinger over 3 NT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0066"/>
                </a:solidFill>
                <a:latin typeface="Times New Roman"/>
              </a:rPr>
              <a:t>Unntak:</a:t>
            </a: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990000"/>
                </a:solidFill>
                <a:latin typeface="Times New Roman"/>
              </a:rPr>
              <a:t>konvensjonelle åpninger / innmeldinger i første melderunde.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990000"/>
                </a:solidFill>
                <a:latin typeface="Times New Roman"/>
              </a:rPr>
              <a:t>Det alerteres "helt frem" når det spilles med skjermer.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Hvordan  skal det alerteres?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Banke i bordet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Vise alertkortet (evt. legge det over meldekortene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Det er den som alerterer som har ansvaret for at alerten oppfatte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alert                       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A275-FF56-4B64-AE5A-9885014783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5DD6D0-3B94-40D5-8591-C68E081F2E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ksempler på meldinger som skal alerteres I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i="1" lang="nb-NO" sz="2000" spc="-1" strike="noStrike">
                <a:solidFill>
                  <a:srgbClr val="990000"/>
                </a:solidFill>
                <a:latin typeface="Times New Roman"/>
              </a:rPr>
              <a:t>Listen nedenfor er illustrerende eksempler til alertreglene, ikke en liste som tilstreber fullstendighet. Følgende skal alerteres: 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Åpninger på 1 i farge som kan være på færre enn 3 kort i minor eller 4 kort i major, for eksempel 1 kløver Vienna,  Presisjon eller Beredskapskløver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1 ruter i Presisjonskløver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To kløver som konvensjonelt svar på 1NT åpning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Flerfargemeldinger som Marmic og lignende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To kløveråpning som ikke er ekte, eller som viser tilleggsinfo om andre farger enn kløver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Ny farge som konvensjonelt kan være på færre enn 4 kort</a:t>
            </a:r>
            <a:br>
              <a:rPr sz="2000"/>
            </a:b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(NB mulig 3 kort i minor alerteres ikke, men skal anmerkes på forsiden av systemkortet)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Ny farge som ikke er krav etter motpartens innmelding.1 over 1, 2 over 1 og hoppmeldinger i ny farge som ikke er krav i et uforstyrret meldingsforløp</a:t>
            </a:r>
            <a:r>
              <a:rPr b="0" i="1" lang="nb-NO" sz="1800" spc="-1" strike="noStrike">
                <a:solidFill>
                  <a:srgbClr val="000066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alert                                             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A5E2-2703-4837-B46E-51D7F44870DA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325C64-49CC-4DEE-B614-F722B9E19E5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Eksempler på meldinger som skal alerteres II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1NT åpning som kan være svakere enn en gjennomsnittshånd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Omvendte minorhøyninger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Hopp i makkers innmeldte farge som er sperr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Alle meldinger etter motstandernes opplysende dobling som er krav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000066"/>
                </a:solidFill>
                <a:latin typeface="Times New Roman"/>
              </a:rPr>
              <a:t>Grandåpninger som ikke viser en balansert eller semibalansert hånd eller som garanterer lengde i minst en bestemt farge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Alle åpninger som viser eller kan vise minst 4 kort i mer enn en farge. Eks :2kl i Presisjon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Times New Roman"/>
              </a:rPr>
              <a:t>Alert for sikkerhets skyld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En melding som en ikke er sikker på om er ekte eller konvensjonell bør alerteres for sikkerhets skyl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66"/>
                </a:solidFill>
                <a:latin typeface="Times New Roman"/>
              </a:rPr>
              <a:t>Denne usikkerheten er UI  for den som har avgitt meldinge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alert                                             Per Nordland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D498-D0B2-4B3F-BEE4-4E1AA1D7102E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3DF6C1-48E9-4BA8-B74A-B0363E3BF17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Alert og straffebestemmelser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Manglende alert og alert i utide er feil forklaring overfor motparten og UI for makker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ersom motparten blir skadelidende på grunn av feil forklaring eller bruk av UI fastsettes en justert scor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et er ikke prosedyrestraff for manglende alert eller alert i utide.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gler for alert                       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7D0C-4DF4-4606-A246-CBB1DA3522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493D9-09C4-4482-BF95-80BD6E0700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9T23:08:40Z</dcterms:created>
  <dc:creator>Per Nordland</dc:creator>
  <dc:description/>
  <dc:language>en-US</dc:language>
  <cp:lastModifiedBy>Per Nordland</cp:lastModifiedBy>
  <dcterms:modified xsi:type="dcterms:W3CDTF">2002-06-01T20:36:20Z</dcterms:modified>
  <cp:revision>9</cp:revision>
  <dc:subject/>
  <dc:title>Regler for alert</dc:title>
</cp:coreProperties>
</file>